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4" name="PlaceHolder 2"/>
          <p:cNvSpPr>
            <a:spLocks noGrp="1"/>
          </p:cNvSpPr>
          <p:nvPr>
            <p:ph type="dt" idx="7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2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984"/>
                </a:solidFill>
                <a:latin typeface="Trebuchet MS"/>
              </a:rPr>
              <a:t>Click to move the slide</a:t>
            </a:r>
            <a:endParaRPr b="0" lang="en-US" sz="4400" spc="-1" strike="noStrike">
              <a:solidFill>
                <a:srgbClr val="005984"/>
              </a:solidFill>
              <a:latin typeface="Trebuchet MS"/>
            </a:endParaRPr>
          </a:p>
        </p:txBody>
      </p:sp>
      <p:sp>
        <p:nvSpPr>
          <p:cNvPr id="10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27" name="PlaceHolder 5"/>
          <p:cNvSpPr>
            <a:spLocks noGrp="1"/>
          </p:cNvSpPr>
          <p:nvPr>
            <p:ph type="ftr" idx="7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8" name="PlaceHolder 6"/>
          <p:cNvSpPr>
            <a:spLocks noGrp="1"/>
          </p:cNvSpPr>
          <p:nvPr>
            <p:ph type="sldNum" idx="7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0276D-F7AC-4906-8CB7-6BF0CCA61F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BDE31-DA2A-47CE-B824-7DD66351DA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a really exciting time for ICT at the mo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s so many options for ways forward with what we are doing – so many free tools available, so much advice available, and so many conflicting points of view … in fact, sometimes it feels as though we could just teach ICT for the majority of the school timetable! But is ICT as a subject really damaged? Or are some people being a bit quick to throw babies out with the bathwater? ICT as a subject means many things to many people and the name itself has been under much debate – no more so than after the publication of the Royal Society report in January.  But I think as a subject name, ICT still has a HUGE amount to offer us.  PE as a subject has the potential to be called tarnished too – after all, obesity is seen as a growing issue (pardon the pun) and low fitness levels put a strain on our health services (I’m not going to say anything about injuries I sustained when keeping fit needing health service input!) But it’s still seen as an important curriculum subject, despite the fact that it means many different things to many people…. It covers football, netball, swimming, trampolining, you name it – AND sports science, bits of biology, etc…. SO I would argue that as a curriculum subject name, ICT does a similar job – it covers a whole wealth and richness of what is done in school –information technology, digital literacy, computing – and ALL are important aspects  of ICT </a:t>
            </a:r>
            <a:endParaRPr b="0" lang="en-US" sz="1200" spc="-1" strike="noStrike">
              <a:solidFill>
                <a:srgbClr val="000000"/>
              </a:solidFill>
              <a:latin typeface="Calibri"/>
            </a:endParaRPr>
          </a:p>
        </p:txBody>
      </p:sp>
      <p:sp>
        <p:nvSpPr>
          <p:cNvPr id="10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C62EA-ED61-4DD9-B090-AEFCF04F01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e need to be careful we don’t throw the babies out with the bathwater – there’s a lot going on and like many of you I’ve been involved in the recent discussions about disapplication and with developing a broad and balanced curriculum framework for ICT.  And there’s a huge range of options out there.  We have to make some difficult choices – we could choose to do nothing until the new programme of study comes into force in 2014.  Or we could try out a whole range of innovative ideas and be really radical and creative with what we are doing in school.  There’s good stuff being done by many schools – we don’t want to lose that – but at the same time, I don’t believe doing nothing is a realistic option…. We need to at least be preparing our staff by developing skills and confidence in preparation for a curriculum that will be expecting ALL aspects to be taught effectively – and that includes the areas of computer science and programming that have been neglected, despite having been part of the national curriculum.  It’s important that we work together on this and today a joint statement has been issued between Naace, CAS and ITTE, clarifying the shared vision of all those organisations  for a balanced approach to the ICT curriculum, which strengthens computer science as part of the broader school curiculum.</a:t>
            </a:r>
            <a:endParaRPr b="0" lang="en-US" sz="1200" spc="-1" strike="noStrike">
              <a:solidFill>
                <a:srgbClr val="000000"/>
              </a:solidFill>
              <a:latin typeface="Calibri"/>
            </a:endParaRPr>
          </a:p>
        </p:txBody>
      </p:sp>
      <p:sp>
        <p:nvSpPr>
          <p:cNvPr id="10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88A03-C72E-433B-840F-58C747AE1E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eed to build on what we have – we need to ensure we have resources available – not just software – though many free downloads and easy to follow visual programming tools like kodu, scratch, byob and alice make it possible for even people like me (I am pants at programming) to be able to support children in this…. We need to take advantage of the expertise from the industry – the Mozilla thimble webmaker tool that enables us to edit websites through  or css is incredibly powerful; the cpd opportunities provided by different people – whether its teachmeet style, hack events, or sponsored events like the Naace third millennium hothouse – need to be embraced…. There’s supportive networks from a whole range of people/organisations - watch out for a whole ICTmark network of supportive local groups that Naace/Bett are partnering to make possible….  </a:t>
            </a:r>
            <a:endParaRPr b="0" lang="en-US" sz="1200" spc="-1" strike="noStrike">
              <a:solidFill>
                <a:srgbClr val="000000"/>
              </a:solidFill>
              <a:latin typeface="Calibri"/>
            </a:endParaRPr>
          </a:p>
        </p:txBody>
      </p:sp>
      <p:sp>
        <p:nvSpPr>
          <p:cNvPr id="10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63CC5-9D2A-4272-B0F4-4C42585A90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eed to keep faith with that aim that we are here to make learning better for the children who come through our classes, that we are aiming to prepare them for the big wide world outside of academia, that we are preparing them for a world that is much more joined up than it has ever been…. We need to prepare youngsters with DIGITAL WISDOM – and by that I don’t just mean digitally literate – I mean something more – we need youngsters who have the skills, who can Choose to Use appropriately … but digital wisdom in Marc Prensky’s definition is a whole lot more – we need to recognise that technology can extend what we are able to do beyond our own innate capabilities…. That we can become smarter by using technology – </a:t>
            </a:r>
            <a:r>
              <a:rPr b="0" lang="en-GB" sz="1200" spc="-1" strike="noStrike">
                <a:solidFill>
                  <a:srgbClr val="000000"/>
                </a:solidFill>
                <a:latin typeface="Calibri"/>
              </a:rPr>
              <a:t>we need to  take full advantage of the tools that make things possible that wouldn’t otherwise be possible – such as peer feedback with children who are learning similar subjects in other classrooms, even other countries; bringing experts who wouldn’t otherwise be available to us into our classes through digital means; it’s about making us capable beyond our innate capacity – making us cleverer – I couldn’t have taught primary before technology enabled me to produce more artistic displays than I would otherwise be able to do, or to find out about a range of subjects that I know little ab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assion for developing our learners means addressing the use of technology across the whole curriculum as well as developing the ICT curriculum itself.  And let’s keep that passion for developing learners as our touchstone and purpose whatever happens during these changing times for ICT education.</a:t>
            </a:r>
            <a:endParaRPr b="0" lang="en-US" sz="1200" spc="-1" strike="noStrike">
              <a:solidFill>
                <a:srgbClr val="000000"/>
              </a:solidFill>
              <a:latin typeface="Calibri"/>
            </a:endParaRPr>
          </a:p>
        </p:txBody>
      </p:sp>
      <p:sp>
        <p:nvSpPr>
          <p:cNvPr id="10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50421-3868-49EB-8A38-FEA15287B7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6439C-E470-4738-9698-475833B785C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7D7E61-67A4-47C0-A535-4476FE1ED2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CD0376-C5DB-44E4-BB5A-BC5AF17931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57FDB0-A506-49DC-B53E-2FE1AEDBA9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3EB33C-7301-4E91-851C-6EC6264957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394640-7464-4D1E-A7B0-D7532BC6D3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6C2EE5-F9F9-4C88-AE63-720056BE86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8CEA68-0680-46AE-A32A-9AB03C0125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F835857-E75B-4583-9288-7304D6C53C2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7AED8C4-EBA5-4F01-BC82-F037CE4C9AD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A0B50C7-4550-47CF-BBEB-D10C5F8C14D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2A0C04-6A41-4CAE-A878-764393BDEC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8700E7-9AAB-4234-A29E-C1A40E80C7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6D0D8F-AFCF-4BFD-AB1A-5099F0815F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341040-168C-49E9-8A57-1ACEA6F3B1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3A8B30-1710-4E29-9421-9EB18AFA2A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BC7E44-03AD-4009-88F0-F83887A359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A7F5A1-30EA-493F-8AA1-5E6E235A0A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DEC69B-D593-4EC1-AF6D-164326E19C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9A6C20-8ECC-4B01-BF51-A012078105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AFE03D5-047E-4D88-8601-4F1CB7CA297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97E845B-C81A-4362-8AA8-4EE2EE7CF82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EA4FC8A-389A-42EC-87E8-4C16B895985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D471734-2A32-40D5-8219-516BA520D62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021F52A-604A-4DED-9517-C4C3F2EB965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9F458BE-80A3-41AB-BF20-12AF596F519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6617C4F-FC92-4962-A1E0-D93C30B3044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1D53236-C254-4DCD-9709-04275286CC9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B2C60C6-9ED2-4097-918A-41373E09073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168AF52-08E0-477B-98B6-C966EFEEE56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DB201A1-3E21-4408-9F5E-10F898B08B4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5C7CE0-53FD-4545-81D9-FEB1CE966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ADE1AB0-338C-4E21-8AED-3A94A3E6F31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5E2E7CB-B514-4759-9B84-FB0C99A7B0A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44E05A4-33C9-4891-BBCA-34AEF9A2F95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D8FF531-A293-460D-B4C5-59775F7C3FA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4BA839A-C382-4F99-A7E1-6457985E525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82CEF87-8F46-41A3-8E70-C223CE2E34F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8D6F148-92D4-487A-A7AD-A9E3755DFF6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CCDDABB-1E9A-43A5-A749-F3024C2C73D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2C1D5CA-BB9F-467D-90AD-8773D5B2C10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5380B4-1BCA-42ED-81B6-6B714207764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8B782-E24A-4BE7-9B3B-EC75DB92C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D82F55A-3829-479F-BEF6-B945ACDABEF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4ADAAFD-5EFE-4243-B42A-5B43DAF9A9D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D1C8AF2-8F22-437A-97EC-67A28A4C178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27D9A3D-CF06-4065-86D3-A3653F8D094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1A0826F-1A21-42BA-8AD3-623498A0D86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A4544DB-6A0E-4F4B-8F66-2E5C1542EE6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34A0627-19BC-4EA4-99BA-56B2DCEDAD2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9FBFB6E-2BE3-4B7E-97A6-EA5E8F1B0EE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4227A2A-E80A-432A-A9DB-0446FC6416A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A495CAB-52F1-466F-B4D4-CEA5C4A5A7E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01452-679E-459C-8771-57582C10B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0B16E40-C705-46DE-82AE-3CFBD826F68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7B13FAD-C77D-432C-ADCC-36A2C222136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AD22BE0-EB1E-4A22-90F4-86243362E29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5BC8D86-49F3-4F3A-A387-830A875747A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48DD27C-0646-4D2B-93EF-105E503107E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E644560-EB0F-4B1A-AC92-87CB3483BA2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1F5A0FF-69BE-4AE2-AE19-D6AF99B01C1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4AB6CA7-6026-4BD8-A3DB-A52ADE5B26D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654C741-40F5-4A20-A524-E4F1E159148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9E35BB2-73A1-43C4-9DF4-172DF7F211B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23854-DC2B-46C1-A777-A0EA2C3D3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770C0A9-3D34-470B-B093-8E591CBD0FE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D4F5A03-DDD4-46B6-AAC6-08D364D1E21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AC1968F-0421-404F-9E3E-B4F93DE987A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EB1A251-E11A-446C-BA70-6B413563B10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0B0B89A-674F-4B3F-8F49-7882F55F15C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71F7441-66A8-4DC5-9CD5-688A712980E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617E1F1-C1CE-4185-BCB1-B8AE29AC711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7175C8C-F15E-4A5B-A327-175DCF508E6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387BCC1-875B-43BA-8717-72F53F2EA76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42828A6-FF6D-40FF-A42B-2C1275FCEA2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BCE97-6253-4859-B651-BB2C6370E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F7E996A-E186-4693-8067-6D14BF30705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6A957BB-2816-437C-8FA7-896FE19B3EF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FB1524E-C345-44C5-9BCA-05880A37FC8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F2C3D7F-17FE-4177-B772-C1562608350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7830600-D2A8-468C-91D9-3ED47E78889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3950509-4F19-4C03-8653-FCB64A9F3D2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7AB02F0-E8FF-4383-A250-C041B341EF5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A9754DB-66AC-446D-AEB4-6775F2585D3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C77B350-EF78-45C1-A9A0-4090723EC35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B301C6E-9F7C-41E3-9A66-F28C8ACC584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58343-AD3A-40E9-A508-548887225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8018C70-9AC3-4E6E-8B75-22124CFCF4B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9208845-EB79-4EE8-A9A3-2D83AA96D5B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0BD717A-A1E7-4915-838B-6CC1DB40CFC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837B938-98C8-4B22-B2E4-83B3FF1D5DE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CC6E7F3-7B5F-43F1-9F5E-53FA03044BA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383977E-8CD3-4DD3-8945-398B4439CBD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104F006-A866-45C2-A448-80BAA3B6163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207BC1A-42C4-4F43-B412-97CF1FBE334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ED2F20E-68B2-415A-9007-13761887C60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3FBA21E-7950-457F-B407-3A9B49CB14F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5C78B-2962-44D9-9046-9685D441B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6A201A3-A50B-4255-AA71-850CCB7F43F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C194552-08D2-453A-A05E-72A9203FBC1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FB4F2A0-EB90-4308-8385-6AE6F9F901A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CC9344A-69CB-43EB-9767-135CE68F284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5517D47-C03D-41B1-A82D-03DDD765E25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835E7D1-7E43-4168-8EB4-43BAFD3E30D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2026D22-8CE9-4FDB-9D7F-883C0BFFFCC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8CF1844-63A7-4F76-B325-E952B12257E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8013291-3812-4E95-860A-B05CE8109CD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CC3BD4C-E76E-4F07-B659-9157999FBDE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027AF-B5BC-4A4F-A94B-EF0A7CF99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67AF187-A7CF-49C8-962B-4CA3B02C01C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4A1247C-B9C4-4C75-BAE7-1C056AA31A2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C4782BD-DE23-4631-BA7A-8CD2C61CD17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A59F38B-AC53-4B73-A3A7-980D68EABCB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EB8BD54-CC5D-4D51-A18F-29153143FE2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3433EB5-01ED-47BD-8457-B3C23C0C3A7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BAED52D-A49A-441A-ACB6-14E3DB24CB8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12F5A1D-771D-4810-A78A-F4F932780BE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8164B60-A588-4C2D-A1BA-0B9E1B1F526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75B0D9E-F357-44BC-AA97-575B9BE955C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FFD27-779F-4087-BCE9-0E17441AC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6477E1A-5EC2-455F-94A0-36D9784B11C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7F7A5DE-BBF0-42E0-8BD9-71F149ACE29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64164A3-97CB-4788-AF1B-F7DD816C7F2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85287DB-FC6B-4A03-877B-73F5A6B5413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81A8B9D-DCA1-4F59-B085-186B10AA1B5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C1659C9-9277-43F1-9245-F0B8014F531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008B5BF-6763-420C-9E16-CB008859E34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ACF49C9-5F3A-46B4-854B-01357C94FF8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D4E4727-3E59-4B3C-8E1E-D4F1AB65929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C453E48-C313-461A-B6FE-34E1CE8ED7F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06329-B431-4B4B-8EF9-C26140A8C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3CC795A-1296-41BD-8138-8EFD68B1A8C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0ABB468-EBA7-4223-B615-F02D41E416D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BBA7FDB-8184-47D4-86BB-8D167E1B56A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D0B4DF5-D01B-47A5-9738-D22CD349AD4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0A1F478-EC29-4890-9754-6001C55A554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9F41739-92E6-422E-AE66-3D671539083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E8F233A-3670-4DA9-A7A4-20F0532FA35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69D9D99B-A215-4EAB-A35B-9B17CF942C5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18AF60D-1B07-4F50-A6A5-31DB3B86B36D}"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25705D48-CD71-4ED3-8D14-5FE920FC293C}"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1EDBF9-A8F4-4388-9D50-C76F458D7A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2256B1C-0915-4A0B-AE46-94E891E468F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DF5BF07-1C38-43DD-BAB5-0E9287A5D51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F3DAA2B-7DA8-4864-8488-BB118C87127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6A6A1B0-C7E9-40DD-B0AB-11B91930E23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4676CE0-A4EB-4EF8-B022-AE0FEB87F26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84E03E8-4D33-4391-A979-959EA42C99E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C4409BC-D6C5-48FB-8441-6D866C96EB5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A7713BF-4802-461C-9E90-CBD0208BA08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BBD590C-520A-4D61-B267-41FFC73867F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48376AEC-46A2-474A-AB62-CEFF9E71B72E}"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B3D62-A5B0-499D-9AE4-E5C0390209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654ABFC8-6D58-4579-9778-80108CD423F0}"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6AB9EEA4-8614-4356-85AB-FF0F57CAC72B}"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C953581-0A63-4876-BB2E-451D890D0AD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F408392-271D-4463-94BE-5A275765826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17E111B-08EA-4CEC-838E-A9836566548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A01372A-6E98-45D5-AC4D-42EBAFAC889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8A8F8D9-6174-4D02-93E3-E6388495C51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09EEE82-E914-49F8-BB0F-0CD3D36FC69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B585379-A78E-4578-B62A-2DCD65B7FB4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462EA18-4097-46C7-92D4-75F7808FE70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C93896-D8A2-47CA-930C-51D6C6DABF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1B21B22-4C31-432E-A257-6DD557469F4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C89D2D74-0EC0-4B0A-BE0E-D22AB79EFCAA}"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6F0B8BE1-6C15-43B3-8CFD-412E7AF3A15C}"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AA17DEAA-7F3F-4A19-94B1-42547E23B72E}"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6A28EDE-08BC-4445-B1BD-31BC261188B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B175212-5CA1-4E4F-86F8-E42ABED9A8D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489AEF4-BE4A-432D-B55C-4221FC00F79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D484A86-5CC5-4243-94CD-D85CF343D09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9571A7C-B7C5-4F5D-B27A-0F0D4800AF8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9EB6E6C-2101-41CA-BE03-EF9F3C24B4D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EE1F45-F8CB-4FFD-9430-D180C12A11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FF47579-5AD3-4586-8209-AEB9145EE88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6F100A4-45D3-4978-B03B-D9FEFAE52AC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65D2EB6-F138-4CBD-808D-ABC76AC752B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5C3F05AC-F13A-4A5E-A1C3-759D61AA3090}"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7F78CD8D-D5E0-42D7-9829-CFA27E742730}"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E480A4AD-9E6D-4EC6-9535-7431D430F3B8}"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27FE1B1-6870-4C14-BFB4-5C706205505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C1532DB-FEC5-4FD7-8D42-EA62EE63F4B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88083B4-49FA-4EDF-A838-B66A32E5D3B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78C21D5-CE17-4432-8755-78EDC11FEE87}"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242058-F4CA-426A-9B0D-01AC0E1D2B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BFEE4E6-8A01-4E73-BFDF-4764C71B5CF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21F2D67-A06D-48F6-B234-92901E98F93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BF4DD07-9851-4D72-B71F-F79AE6302F1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CAFC6E6-3BDF-4131-934A-89D5F304C9C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79BC153-1085-4AEF-B3AC-6F147A6F18F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40D0C6FA-B2FB-45AC-A7D0-E9E0844F4FE7}"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07D75069-B8F8-4F09-A2B4-50B67BD5128D}"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BBDE1709-B970-412D-A992-9E91F3EDE62F}"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14B6D83-1E4A-4D8E-A447-C51133CB3B4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6A5E763-9C4B-4CB5-B5CD-25D57C4A24A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5CAC43-00D9-4A04-8E1A-B9F6615BE5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F9BBE98-9F8C-4682-BF89-A09C41C5373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F00CE07-7C66-46F1-994C-B1A7CB362E42}"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EAA6FF2-28C9-49D0-AF96-7E91733FCC0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AE15BF1-3441-451D-A7AF-4824F9DC2B1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6B0342A-179E-4CC2-8B52-7F1F6B08F04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B73237D-23F1-415E-9E5E-464A8638359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1F5F1EA-73BF-484E-878A-182475928B2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3C4D5A3C-8E16-4E8C-8B4A-4639ABDBC4A8}"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F1C95050-9CCD-4EE1-9451-D09B465BB63A}"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1E0E1192-DB2E-46ED-BA91-7A1BA1AB3CD2}"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373405-F733-4770-B0FA-5F61BA200D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AE8627E-80A0-43FE-974C-A4705E6ACE6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2FB783A7-29F7-44CB-8873-1A3B6C21AA3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E4F46835-0468-4033-94DA-78DAC8530B83}"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422EA585-D648-449C-B2B2-624B5C706ED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69B26178-1BD2-4643-AA80-2C8307B75FF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D9E97EE-83F6-4C08-B779-2BF938B18FC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6591136-D413-4A96-9E02-08F0A8760E6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1FF200F-625E-4457-B00D-0BBB9198AB3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DE7CE75-91EA-430A-9322-7FC9BDBA2C41}"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F440111F-8BB4-4D70-B3E2-AA963CEA5B02}"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B201B4-1C2D-4132-818A-FCD9894E63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00390623-B45F-4375-B281-23ED004310C5}"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3F669B-427C-428C-BDF1-2B001679B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6C17F-D5ED-49C0-9C0D-72C7C3813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6C9772-9B8C-4680-BE6D-74A3E4087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88BA9C-1008-469F-B153-C0E54502A7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F61171-150D-4E56-B29F-66BFD79B88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088DC7-AD6C-4F90-A6A1-A7783FD025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785E4B-6F7F-4A32-8E9D-023AF518BF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540636-2701-4DF2-B39E-8C79F03805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D6C850-1919-4482-8CC8-E3540A7E4D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4EDAE5-5250-45AE-9AEC-9EC702C279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BEA9B9-7A40-4BBA-902C-E497739297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6C0DC1-0EF1-41D7-8BEE-31A5242871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146D9A-B272-45E2-B3FD-3D89DA1433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541FE2-E357-43BD-904F-B22D80D237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C8A090-9C74-471A-B3CC-BD429BB723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8A9CC2-F717-491A-B449-5B48312840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80D7A1-642E-4FE1-BC87-C8E1DB047E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11D171-2E12-43F5-84C9-4621723542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2FB8E7-F38E-4E16-B291-1DBB96B6B6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1103AC-AB95-4108-881F-59854CB2F7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88F282-74AF-4DD8-B44E-65B0A95BE1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B04730-1833-481B-8345-CD0D0EE7F3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41D320-D31E-45D6-83CA-5AE737A68B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A42E82-8EFD-401A-82B2-0CFD0B7D63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5BB6F4-7DB4-4CAE-A144-2543EE7527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49AEFD-225F-4505-94AB-744B9A46A0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B891C7-665B-42D7-B4CF-8AFD9AAA55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D18C7C-6B7B-45A5-AE17-21A91E0CFD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02966F-6847-49E1-B4EA-D950789D59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7F6B70-ABAB-4E4F-A689-5043FB14A6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2624D3-2F7D-4C69-924E-992E5DEC19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B48386-BA0E-48FC-B6F9-66841BC22E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24F64F-777A-4309-9130-160BA389B0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869F40-8E03-45A2-BAD7-8A27934A1A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4AB7BE-19DB-47AA-927C-608AADFE87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17D79A-0600-4052-8353-177BF99957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E4137A-7F1A-448B-A0D4-A7E1416D4D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6B966F-6BD0-43FE-8974-9523D52B97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AF9827-BBA5-4FA9-B51B-F22D2348CC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A01F39-0AD8-46F7-A1EE-9389794B12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7ADC8D-5364-4CD1-8931-5F4D554FCC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2BEBE6-6C05-447C-8B6D-EDA13DB8B3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EF00249-BE68-4441-8B47-94FD636406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3C7B97-9E05-43D7-8FF6-7695CF5D66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72E648-C53F-49A0-BA6C-8A106944EC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CC2FC3-224D-4718-A359-76C8A981C0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A009F1-03F2-42E7-8730-EC5E41FCAF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1B671E-D7FD-4E3B-8763-18700415F3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F78A38-1D35-412F-96F3-5BF2E511DA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70D9A8-EF0F-49DA-A1DA-C39368A4A1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8DCAC8-634D-4C0F-AE10-1DF0D8BA82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AC8D7D-A7EA-49E3-95E3-9230974552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EB9A72-19D3-4A84-ACAA-A5F798720B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416320-B6EE-4DB2-9077-35742F767B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CFB86DB-868F-4947-837D-1F044A3568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516957-E350-48E8-9780-8CF47A0F8C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D64CAB-FC77-4201-891B-35EF42AFC9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84A9D4-84C6-45B2-99C0-81E2CBF3B8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94A3F0-2D8E-4934-A104-C5668FCA69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64CD4D-5A9B-4D97-A377-CD4CE972F4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43DF18-E304-4D02-9BE2-8EDA0AA7D2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210ACD-1703-495A-858B-6A764AFF6E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847FB3-1D52-422E-9D5B-42720506FB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C038D1-0FE9-49C6-B77F-D824197CBB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4B9D108-68B6-4705-9272-48A9F2D9B3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CF281F-EBB7-4E20-8994-B2FE619124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9774A5-F3B2-4EDB-9C71-A58424657C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AFF8D8-9329-48B3-BAAE-F4981C1DE5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17A627-A225-45BA-AD02-3C564983E83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984"/>
                </a:solidFill>
                <a:latin typeface="Trebuchet MS"/>
              </a:rPr>
              <a:t>Click to edit the title text format</a:t>
            </a:r>
            <a:endParaRPr b="0" lang="en-US" sz="4400" spc="-1" strike="noStrike">
              <a:solidFill>
                <a:srgbClr val="005984"/>
              </a:solidFill>
              <a:latin typeface="Trebuchet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5984"/>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984"/>
                </a:solidFill>
                <a:latin typeface="Trebuchet MS"/>
              </a:rPr>
              <a:t>Click to edit the outline text format</a:t>
            </a:r>
            <a:endParaRPr b="0" lang="en-US" sz="3200" spc="-1" strike="noStrike">
              <a:solidFill>
                <a:srgbClr val="005984"/>
              </a:solidFill>
              <a:latin typeface="Trebuchet MS"/>
            </a:endParaRPr>
          </a:p>
          <a:p>
            <a:pPr lvl="1" marL="735480" indent="-282960">
              <a:spcBef>
                <a:spcPts val="799"/>
              </a:spcBef>
              <a:buClr>
                <a:srgbClr val="005984"/>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984"/>
                </a:solidFill>
                <a:latin typeface="Trebuchet MS"/>
              </a:rPr>
              <a:t>Second Outline Level</a:t>
            </a:r>
            <a:endParaRPr b="0" lang="en-US" sz="3200" spc="-1" strike="noStrike">
              <a:solidFill>
                <a:srgbClr val="005984"/>
              </a:solidFill>
              <a:latin typeface="Trebuchet MS"/>
            </a:endParaRPr>
          </a:p>
          <a:p>
            <a:pPr lvl="2" marL="1131480" indent="-226080">
              <a:spcBef>
                <a:spcPts val="799"/>
              </a:spcBef>
              <a:buClr>
                <a:srgbClr val="005984"/>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984"/>
                </a:solidFill>
                <a:latin typeface="Trebuchet MS"/>
              </a:rPr>
              <a:t>Third Outline Level</a:t>
            </a:r>
            <a:endParaRPr b="0" lang="en-US" sz="3200" spc="-1" strike="noStrike">
              <a:solidFill>
                <a:srgbClr val="005984"/>
              </a:solidFill>
              <a:latin typeface="Trebuchet MS"/>
            </a:endParaRPr>
          </a:p>
          <a:p>
            <a:pPr lvl="3" marL="1584000" indent="-226080">
              <a:spcBef>
                <a:spcPts val="799"/>
              </a:spcBef>
              <a:buClr>
                <a:srgbClr val="005984"/>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984"/>
                </a:solidFill>
                <a:latin typeface="Trebuchet MS"/>
              </a:rPr>
              <a:t>Fourth Outline Level</a:t>
            </a:r>
            <a:endParaRPr b="0" lang="en-US" sz="3200" spc="-1" strike="noStrike">
              <a:solidFill>
                <a:srgbClr val="005984"/>
              </a:solidFill>
              <a:latin typeface="Trebuchet MS"/>
            </a:endParaRPr>
          </a:p>
          <a:p>
            <a:pPr lvl="4" marL="2036520" indent="-226080">
              <a:spcBef>
                <a:spcPts val="799"/>
              </a:spcBef>
              <a:buClr>
                <a:srgbClr val="005984"/>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984"/>
                </a:solidFill>
                <a:latin typeface="Trebuchet MS"/>
              </a:rPr>
              <a:t>Fifth Outline Level</a:t>
            </a:r>
            <a:endParaRPr b="0" lang="en-US" sz="3200" spc="-1" strike="noStrike">
              <a:solidFill>
                <a:srgbClr val="005984"/>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984"/>
                </a:solidFill>
                <a:latin typeface="Trebuchet MS"/>
              </a:rPr>
              <a:t>Sixth Outline Level</a:t>
            </a:r>
            <a:endParaRPr b="0" lang="en-US" sz="3200" spc="-1" strike="noStrike">
              <a:solidFill>
                <a:srgbClr val="005984"/>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984"/>
                </a:solidFill>
                <a:latin typeface="Trebuchet MS"/>
              </a:rPr>
              <a:t>Seventh Outline Level</a:t>
            </a:r>
            <a:endParaRPr b="0" lang="en-US" sz="3200" spc="-1" strike="noStrike">
              <a:solidFill>
                <a:srgbClr val="005984"/>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36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DA40E-6266-45EC-97CE-FFFBEEE2388D}"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9"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410"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CE8C2-F7C8-4AB8-99C5-C9BB85147171}"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0"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451"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3572E-6C77-4394-9CE8-C89533B64F6F}"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1"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492"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6153F-382E-4236-9A3E-402010BDB2D6}"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2"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533"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4"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D84A4-3C1D-427C-800B-50034B042BED}"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3"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574"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AB18A-7DAF-4C90-A6F0-BF99854173A3}"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4"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615"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6"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5F714-81FB-4FBE-AA17-A9BA8F8CB50D}"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5"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656"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7"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1AB9E-6423-4192-B27B-490824E9DB80}"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6"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697"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8"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6E5EC-DA8E-4AFE-8DF7-13A5E01EFF08}"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37"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738"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9"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ECEFB-D04E-4BC5-B3ED-E06E6FC7B1BD}"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4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F5F30-D404-4D46-87FF-7399E26A30F4}"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8"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779"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0"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2428F-D34A-43F6-85F9-2A00F69333F5}"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19"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820"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1"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86F3D-EE47-44F0-8C4D-9B08EC648EF7}"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0"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861"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2"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87B79-3197-495E-8001-2877521A049F}"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1"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902"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3"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1EA89-0E92-499D-914F-167263879A19}"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2"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943"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4"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9E69F-69CF-4F26-A4BF-8731EC0BB590}"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3"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984"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5"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3D2B4-0566-4DCC-AEA5-D71831CDB474}"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8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B5B83-F90A-444F-83FE-0A17B410C422}"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12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46410-445D-4900-ADB5-E0D637B1A4F9}"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16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04BB8-CFF3-454B-B13D-3CC3BE51270B}"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20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849D1-D395-4DBA-BAEF-7ECE18667293}"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5"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246"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22033-8EC3-4683-87BB-9A3BDCF378D0}"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6"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287"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C8D76-8399-4E42-A0B4-FF33AE76C3E6}"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32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7F924-1151-40C8-B7D0-C642F54953F6}"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69.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ubTitle"/>
          </p:nvPr>
        </p:nvSpPr>
        <p:spPr>
          <a:xfrm>
            <a:off x="2627280" y="5732280"/>
            <a:ext cx="6400800" cy="1090440"/>
          </a:xfrm>
          <a:prstGeom prst="rect">
            <a:avLst/>
          </a:prstGeom>
          <a:noFill/>
          <a:ln w="0">
            <a:noFill/>
          </a:ln>
        </p:spPr>
        <p:txBody>
          <a:bodyPr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5984"/>
                </a:solidFill>
                <a:latin typeface="Trebuchet MS"/>
              </a:rPr>
              <a:t>Jan Webb</a:t>
            </a:r>
            <a:endParaRPr b="0" lang="en-US" sz="2800" spc="-1" strike="noStrike">
              <a:solidFill>
                <a:srgbClr val="005984"/>
              </a:solidFill>
              <a:latin typeface="Trebuchet MS"/>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5984"/>
                </a:solidFill>
                <a:latin typeface="Trebuchet MS"/>
              </a:rPr>
              <a:t>Naace Professional Officer</a:t>
            </a:r>
            <a:endParaRPr b="0" lang="en-US" sz="2000" spc="-1" strike="noStrike">
              <a:solidFill>
                <a:srgbClr val="005984"/>
              </a:solidFill>
              <a:latin typeface="Trebuchet MS"/>
            </a:endParaRPr>
          </a:p>
        </p:txBody>
      </p:sp>
      <p:sp>
        <p:nvSpPr>
          <p:cNvPr id="1030" name="TextBox 1"/>
          <p:cNvSpPr/>
          <p:nvPr/>
        </p:nvSpPr>
        <p:spPr>
          <a:xfrm>
            <a:off x="0" y="2892600"/>
            <a:ext cx="694836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5984"/>
                </a:solidFill>
                <a:latin typeface="Arial"/>
              </a:rPr>
              <a:t>Babies, Bathwater, Building, Believ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800" y="188640"/>
            <a:ext cx="77724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984"/>
                </a:solidFill>
                <a:latin typeface="Trebuchet MS"/>
              </a:rPr>
              <a:t>Babies….</a:t>
            </a:r>
            <a:endParaRPr b="0" lang="en-US" sz="4400" spc="-1" strike="noStrike">
              <a:solidFill>
                <a:srgbClr val="005984"/>
              </a:solidFill>
              <a:latin typeface="Trebuchet MS"/>
            </a:endParaRPr>
          </a:p>
        </p:txBody>
      </p:sp>
      <p:pic>
        <p:nvPicPr>
          <p:cNvPr id="1032" name="Picture 4" descr="C:\Users\Jan Webb\AppData\Local\Microsoft\Windows\Temporary Internet Files\Content.IE5\IQMZ4BHP\MP900427671[1].jpg"/>
          <p:cNvPicPr/>
          <p:nvPr/>
        </p:nvPicPr>
        <p:blipFill>
          <a:blip r:embed="rId1"/>
          <a:stretch/>
        </p:blipFill>
        <p:spPr>
          <a:xfrm>
            <a:off x="609480" y="1987560"/>
            <a:ext cx="5980320" cy="3979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611280" y="333360"/>
            <a:ext cx="77724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984"/>
                </a:solidFill>
                <a:latin typeface="Trebuchet MS"/>
              </a:rPr>
              <a:t>Bathwater….</a:t>
            </a:r>
            <a:endParaRPr b="0" lang="en-US" sz="4400" spc="-1" strike="noStrike">
              <a:solidFill>
                <a:srgbClr val="005984"/>
              </a:solidFill>
              <a:latin typeface="Trebuchet MS"/>
            </a:endParaRPr>
          </a:p>
        </p:txBody>
      </p:sp>
      <p:pic>
        <p:nvPicPr>
          <p:cNvPr id="1034" name="Picture 4" descr="C:\Users\Jan Webb\AppData\Local\Microsoft\Windows\Temporary Internet Files\Content.IE5\0XQPOIGK\MP900399685[1].jpg"/>
          <p:cNvPicPr/>
          <p:nvPr/>
        </p:nvPicPr>
        <p:blipFill>
          <a:blip r:embed="rId1"/>
          <a:stretch/>
        </p:blipFill>
        <p:spPr>
          <a:xfrm>
            <a:off x="2050920" y="2060640"/>
            <a:ext cx="3770280" cy="376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395280" y="404280"/>
            <a:ext cx="77724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984"/>
                </a:solidFill>
                <a:latin typeface="Trebuchet MS"/>
              </a:rPr>
              <a:t>Building</a:t>
            </a:r>
            <a:endParaRPr b="0" lang="en-US" sz="4400" spc="-1" strike="noStrike">
              <a:solidFill>
                <a:srgbClr val="005984"/>
              </a:solidFill>
              <a:latin typeface="Trebuchet MS"/>
            </a:endParaRPr>
          </a:p>
        </p:txBody>
      </p:sp>
      <p:pic>
        <p:nvPicPr>
          <p:cNvPr id="1036" name="Picture 4" descr="C:\Users\Jan Webb\AppData\Local\Microsoft\Windows\Temporary Internet Files\Content.IE5\IQMZ4BHP\MP900444021[1].jpg"/>
          <p:cNvPicPr/>
          <p:nvPr/>
        </p:nvPicPr>
        <p:blipFill>
          <a:blip r:embed="rId1"/>
          <a:stretch/>
        </p:blipFill>
        <p:spPr>
          <a:xfrm>
            <a:off x="826920" y="1994040"/>
            <a:ext cx="5473800" cy="3641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684360" y="260280"/>
            <a:ext cx="7772400" cy="88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Believing….</a:t>
            </a:r>
            <a:endParaRPr b="0" lang="en-US" sz="4400" spc="-1" strike="noStrike">
              <a:solidFill>
                <a:srgbClr val="000000"/>
              </a:solidFill>
              <a:latin typeface="Calibri"/>
            </a:endParaRPr>
          </a:p>
        </p:txBody>
      </p:sp>
      <p:pic>
        <p:nvPicPr>
          <p:cNvPr id="1038" name="Picture 4" descr="C:\Users\Jan Webb\AppData\Local\Microsoft\Windows\Temporary Internet Files\Content.IE5\0XQPOIGK\MP900440293[1].jpg"/>
          <p:cNvPicPr/>
          <p:nvPr/>
        </p:nvPicPr>
        <p:blipFill>
          <a:blip r:embed="rId1"/>
          <a:stretch/>
        </p:blipFill>
        <p:spPr>
          <a:xfrm>
            <a:off x="1557360" y="1600200"/>
            <a:ext cx="602928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Oval 24"/>
          <p:cNvSpPr/>
          <p:nvPr/>
        </p:nvSpPr>
        <p:spPr>
          <a:xfrm>
            <a:off x="266760" y="115920"/>
            <a:ext cx="6681600" cy="648180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40" name="Group 37"/>
          <p:cNvGrpSpPr/>
          <p:nvPr/>
        </p:nvGrpSpPr>
        <p:grpSpPr>
          <a:xfrm>
            <a:off x="1017720" y="861840"/>
            <a:ext cx="7488000" cy="4959360"/>
            <a:chOff x="1017720" y="861840"/>
            <a:chExt cx="7488000" cy="4959360"/>
          </a:xfrm>
        </p:grpSpPr>
        <p:sp>
          <p:nvSpPr>
            <p:cNvPr id="1041" name="Oval 6"/>
            <p:cNvSpPr/>
            <p:nvPr/>
          </p:nvSpPr>
          <p:spPr>
            <a:xfrm>
              <a:off x="1143000" y="861840"/>
              <a:ext cx="4910040" cy="4959360"/>
            </a:xfrm>
            <a:prstGeom prst="ellipse">
              <a:avLst/>
            </a:prstGeom>
            <a:solidFill>
              <a:srgbClr val="005984"/>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2" name="Oval 5"/>
            <p:cNvSpPr/>
            <p:nvPr/>
          </p:nvSpPr>
          <p:spPr>
            <a:xfrm>
              <a:off x="2330280" y="1962000"/>
              <a:ext cx="2641320" cy="2589120"/>
            </a:xfrm>
            <a:prstGeom prst="ellipse">
              <a:avLst/>
            </a:prstGeom>
            <a:solidFill>
              <a:srgbClr val="ffffff"/>
            </a:solidFill>
            <a:ln w="25560">
              <a:solidFill>
                <a:srgbClr val="c6d9f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3" name="Oval 3"/>
            <p:cNvSpPr/>
            <p:nvPr/>
          </p:nvSpPr>
          <p:spPr>
            <a:xfrm>
              <a:off x="3006720" y="2655720"/>
              <a:ext cx="1290600" cy="1208160"/>
            </a:xfrm>
            <a:prstGeom prst="ellipse">
              <a:avLst/>
            </a:prstGeom>
            <a:solidFill>
              <a:srgbClr val="005984"/>
            </a:solid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4" name="TextBox 16"/>
            <p:cNvSpPr/>
            <p:nvPr/>
          </p:nvSpPr>
          <p:spPr>
            <a:xfrm>
              <a:off x="3071880" y="2282400"/>
              <a:ext cx="554040" cy="30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5" name="TextBox 17"/>
            <p:cNvSpPr/>
            <p:nvPr/>
          </p:nvSpPr>
          <p:spPr>
            <a:xfrm>
              <a:off x="2814480" y="2130120"/>
              <a:ext cx="1623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5984"/>
                  </a:solidFill>
                  <a:latin typeface="Optima"/>
                </a:rPr>
                <a:t>Safe and Responsible Use</a:t>
              </a:r>
              <a:endParaRPr b="0" lang="en-US" sz="1400" spc="-1" strike="noStrike">
                <a:solidFill>
                  <a:srgbClr val="000000"/>
                </a:solidFill>
                <a:latin typeface="Arial"/>
              </a:endParaRPr>
            </a:p>
          </p:txBody>
        </p:sp>
        <p:sp>
          <p:nvSpPr>
            <p:cNvPr id="1046" name="Straight Connector 23"/>
            <p:cNvSpPr/>
            <p:nvPr/>
          </p:nvSpPr>
          <p:spPr>
            <a:xfrm>
              <a:off x="4971960" y="3341520"/>
              <a:ext cx="1081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7" name="Straight Connector 26"/>
            <p:cNvSpPr/>
            <p:nvPr/>
          </p:nvSpPr>
          <p:spPr>
            <a:xfrm>
              <a:off x="3651120" y="861840"/>
              <a:ext cx="0" cy="11001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8" name="TextBox 39"/>
            <p:cNvSpPr/>
            <p:nvPr/>
          </p:nvSpPr>
          <p:spPr>
            <a:xfrm>
              <a:off x="1519200" y="1666440"/>
              <a:ext cx="162396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Optima"/>
                </a:rPr>
                <a:t>Skill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Optima"/>
                </a:rPr>
                <a:t>Including programming </a:t>
              </a:r>
              <a:endParaRPr b="0" lang="en-US" sz="1000" spc="-1" strike="noStrike">
                <a:solidFill>
                  <a:srgbClr val="000000"/>
                </a:solidFill>
                <a:latin typeface="Arial"/>
              </a:endParaRPr>
            </a:p>
          </p:txBody>
        </p:sp>
        <p:sp>
          <p:nvSpPr>
            <p:cNvPr id="1049" name="TextBox 45"/>
            <p:cNvSpPr/>
            <p:nvPr/>
          </p:nvSpPr>
          <p:spPr>
            <a:xfrm>
              <a:off x="3979800" y="1523520"/>
              <a:ext cx="1336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Optima"/>
                </a:rPr>
                <a:t>Technology in the World</a:t>
              </a:r>
              <a:endParaRPr b="0" lang="en-US" sz="1400" spc="-1" strike="noStrike">
                <a:solidFill>
                  <a:srgbClr val="000000"/>
                </a:solidFill>
                <a:latin typeface="Arial"/>
              </a:endParaRPr>
            </a:p>
          </p:txBody>
        </p:sp>
        <p:sp>
          <p:nvSpPr>
            <p:cNvPr id="1050" name="TextBox 48"/>
            <p:cNvSpPr/>
            <p:nvPr/>
          </p:nvSpPr>
          <p:spPr>
            <a:xfrm>
              <a:off x="1797120" y="4602240"/>
              <a:ext cx="1068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Optima"/>
                </a:rPr>
                <a:t>Digital Literacy</a:t>
              </a:r>
              <a:endParaRPr b="0" lang="en-US" sz="1400" spc="-1" strike="noStrike">
                <a:solidFill>
                  <a:srgbClr val="000000"/>
                </a:solidFill>
                <a:latin typeface="Arial"/>
              </a:endParaRPr>
            </a:p>
          </p:txBody>
        </p:sp>
        <p:sp>
          <p:nvSpPr>
            <p:cNvPr id="1051" name="TextBox 54"/>
            <p:cNvSpPr/>
            <p:nvPr/>
          </p:nvSpPr>
          <p:spPr>
            <a:xfrm>
              <a:off x="3651120" y="4602240"/>
              <a:ext cx="1796760" cy="82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Optima"/>
                </a:rPr>
                <a:t>Technical Understanding</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Optima"/>
                </a:rPr>
                <a:t>including computer science</a:t>
              </a:r>
              <a:endParaRPr b="0" lang="en-US" sz="1000" spc="-1" strike="noStrike">
                <a:solidFill>
                  <a:srgbClr val="000000"/>
                </a:solidFill>
                <a:latin typeface="Arial"/>
              </a:endParaRPr>
            </a:p>
          </p:txBody>
        </p:sp>
        <p:sp>
          <p:nvSpPr>
            <p:cNvPr id="1052" name="Straight Connector 56"/>
            <p:cNvSpPr/>
            <p:nvPr/>
          </p:nvSpPr>
          <p:spPr>
            <a:xfrm>
              <a:off x="1017720" y="3327120"/>
              <a:ext cx="1312560" cy="28440"/>
            </a:xfrm>
            <a:prstGeom prst="line">
              <a:avLst/>
            </a:prstGeom>
            <a:ln w="381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1053" name="Straight Connector 60"/>
            <p:cNvSpPr/>
            <p:nvPr/>
          </p:nvSpPr>
          <p:spPr>
            <a:xfrm>
              <a:off x="3651120" y="4551120"/>
              <a:ext cx="0" cy="12700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054" name="Elbow Connector 29"/>
            <p:cNvCxnSpPr/>
            <p:nvPr/>
          </p:nvCxnSpPr>
          <p:spPr>
            <a:xfrm flipV="1" rot="10800000">
              <a:off x="5296680" y="1122480"/>
              <a:ext cx="1794600" cy="1718280"/>
            </a:xfrm>
            <a:prstGeom prst="bentConnector3">
              <a:avLst>
                <a:gd name="adj1" fmla="val 50000"/>
              </a:avLst>
            </a:prstGeom>
            <a:ln w="57240">
              <a:solidFill>
                <a:srgbClr val="dd691a"/>
              </a:solidFill>
              <a:miter/>
              <a:tailEnd len="med" type="arrow" w="med"/>
            </a:ln>
          </p:spPr>
        </p:cxnSp>
        <p:cxnSp>
          <p:nvCxnSpPr>
            <p:cNvPr id="1055" name="Elbow Connector 30"/>
            <p:cNvCxnSpPr/>
            <p:nvPr/>
          </p:nvCxnSpPr>
          <p:spPr>
            <a:xfrm flipV="1" rot="10800000">
              <a:off x="5095080" y="1917000"/>
              <a:ext cx="2621520" cy="2115360"/>
            </a:xfrm>
            <a:prstGeom prst="bentConnector3">
              <a:avLst>
                <a:gd name="adj1" fmla="val 49993"/>
              </a:avLst>
            </a:prstGeom>
            <a:ln w="57240">
              <a:solidFill>
                <a:srgbClr val="dd691a"/>
              </a:solidFill>
              <a:miter/>
              <a:tailEnd len="med" type="arrow" w="med"/>
            </a:ln>
          </p:spPr>
        </p:cxnSp>
        <p:sp>
          <p:nvSpPr>
            <p:cNvPr id="1056" name="TextBox 31"/>
            <p:cNvSpPr/>
            <p:nvPr/>
          </p:nvSpPr>
          <p:spPr>
            <a:xfrm>
              <a:off x="6927840" y="1012320"/>
              <a:ext cx="1577880" cy="946440"/>
            </a:xfrm>
            <a:prstGeom prst="rect">
              <a:avLst/>
            </a:prstGeom>
            <a:solidFill>
              <a:srgbClr val="005984"/>
            </a:solidFill>
            <a:ln w="9360">
              <a:solidFill>
                <a:srgbClr val="17375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Optima"/>
                </a:rPr>
                <a:t>Suggested Areas of Knowledge, Skills and Understanding</a:t>
              </a:r>
              <a:endParaRPr b="0" lang="en-US" sz="1400" spc="-1" strike="noStrike">
                <a:solidFill>
                  <a:srgbClr val="000000"/>
                </a:solidFill>
                <a:latin typeface="Arial"/>
              </a:endParaRPr>
            </a:p>
          </p:txBody>
        </p:sp>
      </p:grpSp>
      <p:sp>
        <p:nvSpPr>
          <p:cNvPr id="1057" name="TextBox 35"/>
          <p:cNvSpPr/>
          <p:nvPr/>
        </p:nvSpPr>
        <p:spPr>
          <a:xfrm>
            <a:off x="6908760" y="4538520"/>
            <a:ext cx="21351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5984"/>
                </a:solidFill>
                <a:latin typeface="Calibri"/>
              </a:rPr>
              <a:t>Every Area of the Framework involves learning about the tools, the technologies behind them, their evolution and impact</a:t>
            </a:r>
            <a:endParaRPr b="0" lang="en-US" sz="1200" spc="-1" strike="noStrike">
              <a:solidFill>
                <a:srgbClr val="000000"/>
              </a:solidFill>
              <a:latin typeface="Arial"/>
            </a:endParaRPr>
          </a:p>
        </p:txBody>
      </p:sp>
      <p:sp>
        <p:nvSpPr>
          <p:cNvPr id="1058" name="TextBox 28"/>
          <p:cNvSpPr/>
          <p:nvPr/>
        </p:nvSpPr>
        <p:spPr>
          <a:xfrm>
            <a:off x="3137040" y="2911320"/>
            <a:ext cx="1023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Digital Wisdom</a:t>
            </a:r>
            <a:endParaRPr b="0" lang="en-US" sz="1800" spc="-1" strike="noStrike">
              <a:solidFill>
                <a:srgbClr val="000000"/>
              </a:solidFill>
              <a:latin typeface="Arial"/>
            </a:endParaRPr>
          </a:p>
        </p:txBody>
      </p:sp>
      <p:pic>
        <p:nvPicPr>
          <p:cNvPr id="1059" name="Picture 37" descr=""/>
          <p:cNvPicPr/>
          <p:nvPr/>
        </p:nvPicPr>
        <p:blipFill>
          <a:blip r:embed="rId1"/>
          <a:stretch/>
        </p:blipFill>
        <p:spPr>
          <a:xfrm>
            <a:off x="7385040" y="5649840"/>
            <a:ext cx="1219320" cy="766800"/>
          </a:xfrm>
          <a:prstGeom prst="rect">
            <a:avLst/>
          </a:prstGeom>
          <a:ln w="0">
            <a:noFill/>
          </a:ln>
        </p:spPr>
      </p:pic>
      <p:sp>
        <p:nvSpPr>
          <p:cNvPr id="1060" name="Rectangle 25"/>
          <p:cNvSpPr/>
          <p:nvPr/>
        </p:nvSpPr>
        <p:spPr>
          <a:xfrm>
            <a:off x="1697040" y="369720"/>
            <a:ext cx="3852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984"/>
                </a:solidFill>
                <a:latin typeface="Calibri"/>
              </a:rPr>
              <a:t>Third Millennium Learning</a:t>
            </a:r>
            <a:endParaRPr b="0" lang="en-US" sz="1800" spc="-1" strike="noStrike">
              <a:solidFill>
                <a:srgbClr val="000000"/>
              </a:solidFill>
              <a:latin typeface="Arial"/>
            </a:endParaRPr>
          </a:p>
        </p:txBody>
      </p:sp>
      <p:sp>
        <p:nvSpPr>
          <p:cNvPr id="1061" name="TextBox 49"/>
          <p:cNvSpPr/>
          <p:nvPr/>
        </p:nvSpPr>
        <p:spPr>
          <a:xfrm>
            <a:off x="6977160" y="2467080"/>
            <a:ext cx="213336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984"/>
                </a:solidFill>
                <a:latin typeface="Calibri"/>
              </a:rPr>
              <a:t>Third Millennium Learning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5984"/>
                </a:solidFill>
                <a:latin typeface="Calibri"/>
              </a:rPr>
              <a:t>Culture, pedagogies, environment, tools, developing higher order thinking skills</a:t>
            </a:r>
            <a:endParaRPr b="0" lang="en-US" sz="1600" spc="-1" strike="noStrike">
              <a:solidFill>
                <a:srgbClr val="000000"/>
              </a:solidFill>
              <a:latin typeface="Arial"/>
            </a:endParaRPr>
          </a:p>
        </p:txBody>
      </p:sp>
      <p:sp>
        <p:nvSpPr>
          <p:cNvPr id="1062" name="TextBox 50"/>
          <p:cNvSpPr/>
          <p:nvPr/>
        </p:nvSpPr>
        <p:spPr>
          <a:xfrm>
            <a:off x="5765760" y="115920"/>
            <a:ext cx="324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5984"/>
                </a:solidFill>
                <a:latin typeface="Calibri"/>
              </a:rPr>
              <a:t>The Naace ICT Framework</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5984"/>
                </a:solidFill>
                <a:latin typeface="Calibri"/>
              </a:rPr>
              <a:t>The Knowledge Hub</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4T09:49:08Z</dcterms:created>
  <dc:creator>Beverley Parker</dc:creator>
  <dc:description/>
  <dc:language>en-US</dc:language>
  <cp:lastModifiedBy>Jan Webb</cp:lastModifiedBy>
  <dcterms:modified xsi:type="dcterms:W3CDTF">2012-06-25T08:39:36Z</dcterms:modified>
  <cp:revision>86</cp:revision>
  <dc:subject/>
  <dc:title>PowerPoint Presentation</dc:title>
</cp:coreProperties>
</file>